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718-C2FB-457C-A97A-02437F05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F1C-84ED-43AA-8206-9FAB767F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48B-A82B-44B0-9837-C8B6F7B8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5A1B-CDE5-43A8-8348-71E16BE3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FB9-570D-4934-8AF2-616F7AB3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95C8-F81A-4E9C-8B18-F4E82F13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7A19-CBC1-43CF-98A1-9D5F6DF3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CCC-D92B-4763-923C-8EAEB4E4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EB7-4FB9-4A3A-908C-0F79E34D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777A-9C6D-4D74-81AE-33111276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2332-B4EC-4F95-BF0B-9F8A11ED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8E9C-87DE-4320-8F39-8C30D88F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095A-5636-4E69-8AF4-280C89BC0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4:20:58Z</dcterms:created>
  <dc:creator>User</dc:creator>
  <dc:description/>
  <dc:language>en-US</dc:language>
  <cp:lastModifiedBy>User</cp:lastModifiedBy>
  <dcterms:modified xsi:type="dcterms:W3CDTF">2009-12-07T14:23:27Z</dcterms:modified>
  <cp:revision>1</cp:revision>
  <dc:subject/>
  <dc:title>Slide 1</dc:title>
</cp:coreProperties>
</file>